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3F28-ECFF-4C0F-96BA-C82AD7970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7014-790C-43C1-B2CF-2F07B85BC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C57A-629D-4726-AFA5-2C816B41E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C71D-9E9F-4282-B0E5-8F3F8D019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E44E-8851-4792-B0F3-96DB88DC8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BD18-75C0-459E-A141-3364B1F03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54B0-173D-4C96-B2BD-7557E48C0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ACFD-5AD4-4B1F-9071-CA2E1665D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3CDA-6B0C-4108-9249-218A2153E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6007-F9DA-48AB-847E-0E8AA84DE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0DB0-7E3D-4289-A32F-728770074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504D-3BF6-4979-B072-67A6C8027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C98E-D4B9-4DF4-BBA5-BCE407D6F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30E2-10B7-4508-BF6E-AC2272420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32151-A9D0-4F83-9483-94D2ABBCF5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AA636-E6EA-4574-B145-5243BE4DE1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1B9E0-64AB-45C7-B1EB-64828AC282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3E6B3-C439-4890-A83B-F557862B59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8CE6-1E53-4BC4-9BB9-EA2B30493B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7294-5100-4A25-BB01-4765745B12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F53D-3A06-4553-A852-DC2ED047F2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F93E-9217-48FF-9F02-D1B26D2D13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92DE-215F-4AF0-88B2-D92BD5C242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49B9-90EF-44D6-85D4-BF3E872672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E018-BC73-4826-A032-C35CAAD238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2BB0B-4B7E-4084-8DF4-007F107648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9E2E-7F7D-4A2D-80A2-FABC063B51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9267-D6A2-42A8-BE8A-33E2B7BA02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1E58-B3B9-4833-A2EC-1531434573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D653-F743-44E0-AA5F-97C5DFA301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91DF-236C-43B9-BCB6-B257649386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79293-1681-466B-A974-969D7F802B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9F3EF-1B49-4447-B85A-C0E9B911FF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838E4-84B3-45E6-83D9-66A58306C7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E72E1-DD81-4A72-9AF1-7246C296C2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F7C93-50E9-4889-A54F-DD5B8877A2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BE417-1CB3-4315-9B6C-38D8F6917A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54BF8-92B6-4E37-B682-040B09B30F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E06D-52BB-4EE4-AAA4-A2304B67DC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425C-EDB1-44BE-B0AF-36DC11EFBA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17A3-9121-4EC2-972B-B8A153855B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Verdana"/>
              </a:rPr>
              <a:t>Projet d’Organisation d’EEQ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C8DC-1162-4A93-AC13-DF8F64578E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térêts du 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uts et object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ègles de confidenti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for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alendr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B140-F603-4BBE-9C7E-1528A7D4BA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ntrô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é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ires, rétro-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ôle de “référence” du fournisseur d’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ires et recommandations des laboratoires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eilleurs moyens de résoudre les problè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eilleurs moyens de recommander certaines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MCj01572990000[1]"/>
          <p:cNvPicPr/>
          <p:nvPr/>
        </p:nvPicPr>
        <p:blipFill>
          <a:blip r:embed="rId1"/>
          <a:stretch/>
        </p:blipFill>
        <p:spPr>
          <a:xfrm>
            <a:off x="990720" y="4440240"/>
            <a:ext cx="2514600" cy="18842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8"/>
          <p:cNvSpPr/>
          <p:nvPr/>
        </p:nvSpPr>
        <p:spPr>
          <a:xfrm>
            <a:off x="3505320" y="4343400"/>
            <a:ext cx="5105160" cy="2025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  <a:ea typeface="SimSun"/>
              </a:rPr>
              <a:t>On est jamais trop parfait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C513-4659-4826-9F8B-39E6602854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être déjà contrôlé par un organisateur international d’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impliquer les autor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s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pet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avec du matériel non contami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par une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avec une bonne stratégie de commun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être attentif aux comment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685800" y="1219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Verdana"/>
                <a:ea typeface="SimSun"/>
              </a:rPr>
              <a:t>Commencer un programme d’EEQ au niveau p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  <a:ea typeface="SimSun"/>
              </a:rPr>
              <a:t>Résum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2635-1B5E-425D-AFBC-63B07AD55A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486040" y="2057400"/>
            <a:ext cx="3886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80880" y="10666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3B49-9957-47A1-ABDA-A2CC50BA32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Options d’EE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jet national de test de capac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seau de laboratoire –comparaisons/recontrôle inter laboratoi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+/- évaluations sur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5464-2857-4866-9800-8D7E3C0648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  <a:ea typeface="SimSun"/>
              </a:rPr>
              <a:t>Avant la participation (et le succès !) dans un programme 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SimSun"/>
              </a:rPr>
              <a:t>Souscription à un programme extérieur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ntrôle sa propre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impératif et oblig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une question de conf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F47C-7833-4F60-A2BF-6D79E82DFC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garantit la </a:t>
            </a:r>
            <a:r>
              <a:rPr b="0" lang="fr-FR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ttaché au mandat des instit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moyens d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en liaison avec les activités de licence / certification / accréditation / règlements nation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finance (les activités d’EEQ permettent des économies,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les financer en vaut la pein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MCj01570510000[1]"/>
          <p:cNvPicPr/>
          <p:nvPr/>
        </p:nvPicPr>
        <p:blipFill>
          <a:blip r:embed="rId1"/>
          <a:stretch/>
        </p:blipFill>
        <p:spPr>
          <a:xfrm>
            <a:off x="6858000" y="3894120"/>
            <a:ext cx="1752480" cy="15829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Impliquer les autori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72CD-E1BB-4B02-B9BC-1CCF92229D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encer simp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Test de capac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Lames, colorées ou 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loration de 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germes acido-alcoolo rési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de souches bactérien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icro organismes entériques (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econtrô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Lames (TB, Gram, LCR, aut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ouches bactériennes si matériel et capacité techniques présentes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 souches de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frottis"/>
          <p:cNvPicPr/>
          <p:nvPr/>
        </p:nvPicPr>
        <p:blipFill>
          <a:blip r:embed="rId1"/>
          <a:stretch/>
        </p:blipFill>
        <p:spPr>
          <a:xfrm>
            <a:off x="6934320" y="2286000"/>
            <a:ext cx="198108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0" name="AutoShape 6"/>
          <p:cNvSpPr/>
          <p:nvPr/>
        </p:nvSpPr>
        <p:spPr>
          <a:xfrm>
            <a:off x="5715000" y="2666880"/>
            <a:ext cx="914400" cy="457200"/>
          </a:xfrm>
          <a:prstGeom prst="pi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A3DD-5744-44FE-9ACE-3C59025305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encer pet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etit nombre de laborato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égion pil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Vérifier les options d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ires pour une analyse (en dehors du program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remière étude avec du matériel basique (la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ires pour la première an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. 3 éléments par envoi (minimum 2 par 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9"/>
          <p:cNvGrpSpPr/>
          <p:nvPr/>
        </p:nvGrpSpPr>
        <p:grpSpPr>
          <a:xfrm>
            <a:off x="6553080" y="304920"/>
            <a:ext cx="2151360" cy="2590560"/>
            <a:chOff x="6553080" y="304920"/>
            <a:chExt cx="2151360" cy="2590560"/>
          </a:xfrm>
        </p:grpSpPr>
        <p:pic>
          <p:nvPicPr>
            <p:cNvPr id="136" name="Picture 6" descr="j0278576"/>
            <p:cNvPicPr/>
            <p:nvPr/>
          </p:nvPicPr>
          <p:blipFill>
            <a:blip r:embed="rId1"/>
            <a:stretch/>
          </p:blipFill>
          <p:spPr>
            <a:xfrm>
              <a:off x="6553080" y="304920"/>
              <a:ext cx="215136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AutoShape 8"/>
            <p:cNvSpPr/>
            <p:nvPr/>
          </p:nvSpPr>
          <p:spPr>
            <a:xfrm rot="19759200">
              <a:off x="7238880" y="914040"/>
              <a:ext cx="914400" cy="533160"/>
            </a:xfrm>
            <a:prstGeom prst="pi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62E2-AB73-4D02-ADDC-9DB94EC67D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  <a:ea typeface="SimSun"/>
              </a:rPr>
              <a:t>Commencer par du matériel non contami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 début, éviter: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agent pathogène “dangereu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érums contamin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uivre les lois nationale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nhls1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461A-BB84-464B-933A-C6F8498C20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Besoins matéri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urea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etit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Outils d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nhls2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BD35-6566-43D6-9968-2C2CCE545F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Laboratoires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tor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ociétés scientif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ssociations profession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tres parties prenantes intéressés par l’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j0283214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6858000" y="2590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« EEQ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dolmazonv</cp:lastModifiedBy>
  <dcterms:modified xsi:type="dcterms:W3CDTF">2010-04-08T14:45:04Z</dcterms:modified>
  <cp:revision>20</cp:revision>
  <dc:subject/>
  <dc:title>EQA scheme Organization optional</dc:title>
</cp:coreProperties>
</file>